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6816-4D65-4BF9-93EA-F148EA56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D068-E451-4167-8375-ED14C8AD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7414F-5F6D-40AF-9F61-8EB634E9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551A-4DFF-4158-91D8-BEB35812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39BA-D1AC-4938-98C2-20F62353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ABC9-44B5-4973-94E1-AFCD994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9608-7FBA-4FD2-98CF-EFBE53C4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016D-EA9E-4DAD-B567-0D72ED88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9A03-3E91-48EB-8605-BFBB57E3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A80F-35C8-46E2-A119-C1E21214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C8E2-2443-4F7E-96CB-D02EB93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39C1-0A75-4259-9CF6-A151E0D4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A5D3-C9C6-4E21-83C4-BB3D0F7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6F0-8AA1-49A2-9A02-E6FE2453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6A5D-5007-4658-94D6-E384FB24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55C2-D750-4000-BC75-94C380C8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D279-7EEF-4C5F-A615-B02018EB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B17A-BE33-4F3A-AC9E-E986FCF7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85F7-78BE-4FDC-B7B0-DAE7BDEC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ADC0-CB6C-4475-81D6-0EE235BE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5292-9EFD-451D-A871-C6711A72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9D4B-BFA7-435E-9C6B-4D06783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2960-B28F-4C8C-BD59-BA29B86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5101-DB6C-48E3-AC31-BA3F3B4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10FA1-04F7-4078-B625-CF9D1F2B11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BF428-F190-461B-911A-3C64C083B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C8C6D-80A1-46B3-A237-B5A2AF769C1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885A3-C51C-451C-A41D-261EFCA668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idal Energy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ny Ger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ila Doug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ke Yo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ANd9GcQJafkpREusGfkbuDi77ywzeGEeiZo8g9Dj-fk_V_gwraFllP_DX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tidal energ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l energy works by the tide rushing through holes in a dam, called a barrage that have a turbine inside them that spins to power a generator producing electricit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newable re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n’t poll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it’s built, the energy is f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uel is nee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ap to maint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des are predic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6" descr="ANd9GcS_Y8rGccn3IQ-Yyye0K9WNfLN8NWhYwmARdIpxGmkO5cqI9cB-1A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rrages are expensive to bui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fects the wildlife-fish can’t migra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provides power for 10 hours during tidal ac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an “eye sor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8" descr="ANd9GcRu5-w-auFErzn_C9GGors6hqUE6OC_Y0sUUJJhIEimx67zlmBgNg"/>
          <p:cNvPicPr/>
          <p:nvPr/>
        </p:nvPicPr>
        <p:blipFill>
          <a:blip r:embed="rId1"/>
          <a:stretch/>
        </p:blipFill>
        <p:spPr>
          <a:xfrm>
            <a:off x="4495680" y="3962520"/>
            <a:ext cx="39625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uses the tid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oon is the primary cause of the t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greater gravitational put on the ocean causes it to swell and be dragged along with movement of the moon and su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ANd9GcTTJHyGaK6c1nm2MLw70nQmsdH_glmXZoLjFroS5jOYbYLuT-IF"/>
          <p:cNvPicPr/>
          <p:nvPr/>
        </p:nvPicPr>
        <p:blipFill>
          <a:blip r:embed="rId1"/>
          <a:stretch/>
        </p:blipFill>
        <p:spPr>
          <a:xfrm>
            <a:off x="3641760" y="3809880"/>
            <a:ext cx="50450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d9GcSrVmx0GT4XhedGbbS7iAn2XUYV-B-PVBQPIbCLoiKNcb4fNmG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ay of Fundy moves 100 billion tons of seawater every tidal movement making it a perfect spot for the use of tidal energ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l energy is being used in places around the world in France, Russia, Hawaii. http:/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tSBACzRE3Gw&amp;playnext=1&amp;list=PLB041B96A21D4084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6:51:54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4-27T17:25:58Z</dcterms:modified>
  <cp:revision>5</cp:revision>
  <dc:subject/>
  <dc:title>What is tidal energy?</dc:title>
</cp:coreProperties>
</file>